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9FEC3-81BF-408A-9994-2F9A3E7740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1C9B3-0A9C-4546-A477-26E708CC1C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42678-3EAB-40B4-9D9E-047B528387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3537A-273B-4EF0-9503-107427FE8D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13566-EB6E-40F7-BBB9-2FA582E640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BD8C-0244-4AA8-BB83-7023D5664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1580-224D-4440-BC9C-D18D82928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E03B-78DD-4EDD-8B5F-6AE00DC59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2D4F-2D54-45CF-A0A6-BF1E8C2A5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703D-7841-45D0-AA4E-B857F1312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B421-410C-4A8C-9189-B46A50005C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9337-416D-4AFA-8A69-5E3235D60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97C7-13ED-409E-9F3E-87C313224D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42B8-1C6E-4534-9F7E-801A2FB1D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6B4F-93EB-4407-95DA-C1878CDA4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C49E-F54B-4958-AB6E-8DDC98793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7F96-14A0-4A8C-B373-8BA344876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1A49-FF72-4331-ABA4-3FD3A6C6A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DFDC-9225-4653-BC72-E38964813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6EC9-51F2-4A8A-9730-3403730C97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4541-7E5F-4574-B64C-A7DBA9559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F85A-814D-4C93-8B8B-BAF1F2379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E7C1-0C42-4E55-8485-9BB592F99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E840-4541-4501-A824-311D2207A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857B-DB85-4858-A7F4-4516E3442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E1CB-0BE5-4333-9E07-4DD642E59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2F63-3FD4-46ED-AB7F-0105E342F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E043-2BF3-4056-8FAB-04D6FA51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A3AF-76F5-4AAE-8A1F-9C22A1A9B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EA47CC-13FB-40A1-9764-D1AD20C374B1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B00E237D-CDEC-489D-9111-B1AC0C9D5F9A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1BA94A-9430-446F-91CE-508B2CA45DE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173EAC00-3DD9-46A2-8E55-875AA9D3B25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oor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10 februari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Referentiemodellen Gemeentelij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   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el 1"/>
          <p:cNvSpPr/>
          <p:nvPr/>
        </p:nvSpPr>
        <p:spPr>
          <a:xfrm>
            <a:off x="15717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Terugbl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uitgangspunten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ERD2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2 SO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Aanpassing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- Metamodel Referen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         </a:t>
            </a: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Gemeentelijke Basisgegevens (RG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Aanpass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57120" y="714240"/>
            <a:ext cx="8460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Constructie groepattribuutsoort is aangepast, hierdoor zijn geneste groepattribuutsoorten mogelijk en dus generiek toepasbaar binnen het stels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anpassing constructie leidt tot het vervallen van stereotypes Subattribuutsoort, Subrelatiesoort en Subgroepattribuutso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emantisch  / inhoudelijk is groepattribuutsoort niet gewijzig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attributen binnen een groep wijzigen gezamenlij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Nieuw stereotypes Datatype, Referentielijst en Referentiegegeven toegevoeg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Opname stereotype Tekentechnisch t.b.v. presentatie in diagramm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el 1"/>
          <p:cNvSpPr/>
          <p:nvPr/>
        </p:nvSpPr>
        <p:spPr>
          <a:xfrm>
            <a:off x="157176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Soll: Metamodel R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419040"/>
            <a:ext cx="7586640" cy="665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1-01-23T10:07:15Z</dcterms:modified>
  <cp:revision>179</cp:revision>
  <dc:subject/>
  <dc:title>Dia 1</dc:title>
</cp:coreProperties>
</file>